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590-2DD8-4458-B2DA-287BCE0C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411-596F-4A61-A664-A8AC6B9C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AD69B-8D4C-48C3-B34B-9ED402B8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2C470-B9FB-463F-8569-1713BAA8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41693-3A35-40F0-949D-9BD878E9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D19C3-C08D-49D5-A259-D4F080A0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9F448-1201-47F9-9953-5CF5B4D2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BC30D-6BCF-4015-998A-F00FD88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C31AD-407E-43E2-94C5-F5E52AC5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B65BC-8FF1-4ABC-B0DC-2673359F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A0DA1-5063-4AD7-88CF-C5D7FCF5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28F5F-7155-4551-BCC9-0D53C10A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23A-A6B9-437E-90B9-88B975CF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C075B-599D-4232-8172-908DC052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4C0E5-D039-455C-8A66-315FD8B8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15CBB-0760-405A-88A4-A009D3E9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07B98-8207-48AF-8B07-08952492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BDD21-B6CD-4AC2-877D-F6176E0A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D0407-AD8C-4408-BBAB-057835B1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91672-6ABD-4E41-99E8-D06AEA00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8E9F2-F6D1-4683-86C5-214FC5F0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8119A-432A-4240-8BF8-0E33E630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96FDD-91DD-43E5-9782-112B6FD8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D8B-DA0D-409C-9A35-868FB460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19F80-2034-42E9-B942-8DC83BD8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4F043-9B50-47E7-9760-93E1F75B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6B60F-40BE-452D-A3FD-A251AD98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300CE-EEF2-4C76-805E-7BC96C2E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373B5-D88A-4629-81AF-72A19D84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07810-893A-45E4-96A5-F3835A34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8A5B9-2B5A-4FE2-B353-BABDF113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73681-2300-4363-BCD8-40F8E60D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D3128-BB5E-4F74-AD8C-63A8D2E0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8175B-FC81-4436-809F-329C453B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3B17-B5FC-4B02-AD62-9FCE7717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D6578-A89F-4059-B2A8-9147C401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3B6F2-5128-4FA5-B12D-CEAC1864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FF846-6B6B-4803-A79C-C4C57BED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CF9F6-D626-4F40-9539-B474DBA5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A2096-14E2-4C1F-9FC1-5AF0CCB3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48376-9350-4BE1-ACF5-B0126A01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096AE-5C17-4E97-AF39-E623C55E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6E0EF-5F0F-4840-8CFE-3C5762D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FBF5F-C195-417E-9047-C4CADA2C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1F6DF-7016-4F0D-8FB6-AEA352AE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ECFC-DBAE-457F-B9B7-9CCBE9EB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59879-30AA-4FD6-BE33-75F5072F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E3C6F-2401-437F-B2CC-76A751FC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3683B-E17B-4C42-BD7E-C7849170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1FD0C-187D-4F63-81A6-F395F6C9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A8FD2-6A73-4BF5-A463-78A27035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97A5-7DF6-4725-AB79-F04E6CC1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200A-9A72-4A50-8B37-49A2F388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1980-5D12-49B9-8A47-26EB24A7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C4CA-0F4E-412C-B1FA-9B51A5AA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96F6-9D90-4E30-AE5C-B3DF6C1C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869-406E-4EA3-BCDD-4A0CF76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5136-7D34-4943-A27D-4CCD5A10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DCA5-0826-478C-99F1-D6B85D06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B102-5974-49FF-9566-0A251681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7DE5-1E99-47E6-AD22-C4B18FCB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7436-8991-4257-82BC-73CC7C1F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EB57-94CB-4706-B13D-1BC443C4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B606-25C9-47E8-BF26-3F6927F7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687D-E910-4F90-9460-F8DC4CCD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C077-B899-46B4-B2DD-FB5AB9DE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BA2C-AA9E-40C3-9B75-713A1BE4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F39-A8BE-4DA2-8B16-2EE6F816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1208-212A-4AB2-B536-78330EFF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0292-6D70-4AB8-B7EC-F93B901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C738-82A7-4F55-90B2-8312B167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BC716-D8F5-445E-9FB1-C9510C9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B31C2-C2CB-4C1E-BCEF-DE649F74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B63F-A9FC-4914-848A-8F247886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7E86-07AD-4F17-8A8E-5516B9E9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9DBE7-F26F-457D-B462-A53DCA4A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61952-7FFB-4AF7-8A18-3131ED92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A227-4F2C-4CB2-AC3C-8DCE5528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E6D-6A1F-4882-9C5A-E19F3DF2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E0AC-D431-47E0-AF60-0B57E172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9DB8-3D60-4D73-A90A-9E1C9C12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544BB-5319-4CF3-A9BC-012B64F3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5E324-3443-4FFA-B992-7DD5C396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1346-DF3F-4D6A-898B-F7047AE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3A8E9-0ED9-4D26-9127-515AD2E8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94C6-77F3-4551-B493-6A054BDD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DFAD-A2B8-4DF1-8D3E-752467E5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D1E8-D02E-4E5C-A4E0-F68275B1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FC5F0-22BA-400B-9D80-83AF0AEC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046-5297-466E-A24C-9BD6019A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9281A-28F1-47FE-A457-A828C628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2ECCE-AB5F-4AE3-8997-DCC02690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B57ED-AD80-490C-9CA3-4BEA0C2F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D2C1A-9020-4D8D-A76E-B9554192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6A6F-0F04-493E-AFB6-582E1E8D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495A1-E126-4416-BFBD-87D49BD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FE86D-86C7-4FE8-A637-A76D8701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C2F9-6CCE-4FF7-9132-63EA617B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4F40-82A4-4E93-9D42-100F128D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00F51-E16C-4CDA-9294-921742E5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4AA-AC25-42CF-B26F-9906875D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C66DA-2B9F-4B64-AD0C-D9FFA5AD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47515-9F1C-40DE-A6D2-328CFF33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3A072-308F-40A3-BAD1-7BC2FCA2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10976-A5F1-473C-B8D0-680AA273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1EAE-318E-4AFD-A227-F7278C53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0B7E6-7275-4B8F-AA6D-41269DDE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93F95-02D6-4300-B161-037AF98E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8880-E105-4B3F-B9DE-42FA55CF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65C02-5A07-4244-AC07-62AA3E2B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1FCDE-6EB2-4C8E-ACD9-07F44F97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0CD-3E71-4AEC-9E05-FFE07E4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C736B-7181-4B0C-80BE-207BAC63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323E6-1B96-4289-8904-4E953350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A5BBD-3143-4C84-A33D-EAD9C142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E7120-B04C-4E03-B44E-35FE7249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E0B1D-1536-4E30-93D9-06D9B274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EFFE6-723F-4EF5-B127-051B685B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EDCD3-0A56-4972-ABC2-83192C9C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B3DF1-A5D9-4AFA-A950-BBF717FA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035E5-5286-4B93-AC62-F175C898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5AD9-7934-46EF-9D4F-AC09C5BC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047-A8D8-499C-8ECA-8819C430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31623-5CE6-4963-A0B5-6C725D7B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2DBB7-E070-48EA-815B-E6692513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22DC7-78B0-44AB-A4D6-07CFF46C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688CD-B3D7-48D0-8DA3-4D51D7BC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E75AE-8340-49E3-BCE0-B582A533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F57C7-01C6-412E-9539-93DA7037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5926B-BBC0-407B-AE29-FCDB8779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666A5-1CB9-4EFF-965B-F8B1F8E1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A01AC-AC82-4520-8013-CDF6A56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AB5E2-0FF5-4663-B316-7E17DAD5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448-BE06-47DA-92AE-AE2E7211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C5C7C-F7E0-4FF5-B4D9-7054AC7A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3ECBB-6847-4D36-8A34-D1CC5EA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EF16E-B42F-4C2C-9C67-4803544E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8CBE2-ECBA-4195-B6DC-42C91C40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4B818-CDBC-4008-97A6-9F606F80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D9F8C-D9C3-40EF-A727-575EC69E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0E791-6E93-4C34-9796-1FBD06CF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D74F6-6EB6-48CA-AFBB-37B44D2C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C94BA-C43D-41ED-BD69-CCF2D376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16833-9125-4C46-B2E7-CC7E6993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AF88-6BB1-4166-99AE-E850AF2029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67AA-EEE3-4DF7-B634-E3F9D5625B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99CE-2939-4614-B109-84BA80B4BA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15A2-0FF3-4ADA-9B39-0ADAF39034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2F76-6A99-4ED1-A34C-9477AD65E4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6901-FDE0-4057-8B50-E5560B9942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8F73-2AB1-4928-8F28-D5BB5DA135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8016-36E9-493D-9687-C76886CD71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E93B-32E0-42DA-BD8C-E03CFCED55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6828-40DA-4C39-9D1C-88BEA095B0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BD28-5A2C-403E-BC8A-08E3CAD3FB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4EEA-486E-4B44-B90A-53D1DA1B07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96 K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z 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j milost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z Božej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vätý vít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ždy znovu z vďa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esť Bohu vzdáv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 deň od svetskej már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s vedie k Božej rad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ás privádza 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y k radosti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Pán a 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 pokoj daruj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sŕdc nám lásku vl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s povznes k výš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uj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našich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labých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prosieb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hlas</a:t>
            </a:r>
            <a:br>
              <a:rPr sz="40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odpusť viny, očisť nás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sá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sklo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sa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ná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is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ná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íď, Duchu Svätý, prí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oc svoju udeľ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vieme stáli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nás sprav si pravdy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j v službe lásky vierou 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víťazne boj dokonč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aj v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zne boj doko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25:14Z</dcterms:modified>
  <cp:revision>23</cp:revision>
  <dc:subject/>
  <dc:title>Je veľký náš Pán, on slávy je Kráľ Nech do všetkých strán  spev vrúcnych znie chvál.</dc:title>
</cp:coreProperties>
</file>